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6C5-21B1-4B00-9200-ACE6479F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DC2-B766-4DA7-B59C-C64EFEB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B20-9C2A-4A25-96DA-6F238E66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88F-9E71-4866-9A6D-9A52E2A5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349-D5A8-4FE4-80A0-F1AC8DC8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A56-4E15-4945-815D-B4FC7D17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991-CE9C-4CBE-ADBF-0A3E19F6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69F-0A2E-432C-8F7A-A1F4EEDA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6EC-358E-428A-B92F-EAE1072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3CA-54E4-412E-8271-A585991E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282-503D-43D5-AAD3-229B0D29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355-07A1-49FD-A9B5-0EADAE5F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74E2-DCE8-4417-95E1-6529DB05D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2 Už slávneho dňa jas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slávneho dňa jasn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v diaľke zora sk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blízko chvíľa šťastn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predo dvermi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biely oblak z diaľa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viera vidieť sm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ríchod Kráľa kráľ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Haleluja!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 priatelia sa stret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adnú oko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dá nám radosť več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šetko obno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mrti vládu z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večnej sláv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uzrú vykúp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nehynúci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modlitbou a vi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pred v láske kráča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horlivosťou vrel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blížnych pracu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vzoprime sa zlé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nahu posvä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me môcť j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šťastní v ústrety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7:43:39Z</dcterms:modified>
  <cp:revision>3</cp:revision>
  <dc:subject/>
  <dc:title>Bez nadpisu</dc:title>
</cp:coreProperties>
</file>